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CBC3-3727-425D-B125-452A7F15E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 from the Office of Science Education, the National Institutes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Control DNA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, where either DNA or cDNA derived from normal tissue is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Sample DNA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, where either DNA or cDNA is derived from diseased tissue hybridized to the target DNA.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a combination of Control and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, where both hybridized equally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BLACK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areas where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neither the Control nor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ach spot on an array is associated with a particular gene. Each color in an array represents either healthy (control) or diseased (sample) tissue. Depending on the type of array used, the location and intensity of a color will tell us whether the gene, or mutation, is present in either the control and/or sample DNA. It will also provide an estimate of the expression level of the gene(s) in the sample and control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genomics/method/RFL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resting link with explanatino of RFLP and some case study problems re: paternit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NA on gel is denatured (to single-stranded DNA) using a chemical --&gt; single-stranded DNA on the Southern blo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87F-A476-4A86-9095-F63C152F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996-F81F-4F3B-B175-9C5DDD13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279-0BA8-489A-839D-8E85649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AEA-DAA1-40D8-9F70-60BE2DAC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E4A-A6EC-444A-94BA-B690E39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B3E-FE30-433E-BD31-CD3F3D52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79D-9DB1-47F8-A9A5-361CB3E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C1A-EF45-4D16-94C2-3C131CD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1DF-EEA6-4159-B6E5-04453BDC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09A-1722-4964-96A1-0ECC283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47A-87E5-40DB-919C-76E0769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737-0EDC-4F23-9A0C-27B038D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606-992C-4A52-8604-47F22B3D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3 - Advanced Molecular Biological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09760" y="609480"/>
            <a:ext cx="45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er dideox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simple 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smcg.cifn.unam.mx/enp-unam/03-EstructuraDelGenoma/animaciones/secuencia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oguelph.ca/biophysics/central/facilit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for analyzing gene expression that consists of a small membrane or glass slide containing samples of many genes arranged in a regular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cientists to analyze expression of many genes in a single experiment quickly and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interactive animation with simplified explanation of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bio.davidson.edu/courses/genomics/chip/chipQ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erase Chain Reaction (PC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making many copies of a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increase because each cycle doubles the number of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forensics, medical diagnosis and genetic research because a small amount of DNA can be amp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mus aquati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ype of  bacteria that live in hot spr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denatured at the high temperatures needed in 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ptimally at 72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odnaism.com/what-is/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62280" y="19810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tep-by-step animation of PCR process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dnal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org/resources/animations/pc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xcellent interactive “virtual lab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learn.genetics.utah.edu/content/labs/pc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Fragment Length Polymorphism (RFL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differences in DNA sequences betwee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 regions are often highly polymor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LP uses these differences to distinguish between individual DNA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7560" y="609480"/>
            <a:ext cx="462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LP animatio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homepage.smc.edu/hgp/tool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imple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bcs.whfreeman.com/thelifewire/content/chp16/160200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lide-show of RF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ihome.cuhk.edu.hk/~z045513/virtuallab/animation/rflp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www.nwfsc.noaa.gov/publications/techmemos/tm17/figures/moranfig4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ger dideoxy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developed in 1977 by Frederick Sanger &amp;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DNA sequen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1-11-30T16:13:13Z</dcterms:modified>
  <cp:revision>174</cp:revision>
  <dc:subject/>
  <dc:title>Biotechnological Tools and Techniques</dc:title>
</cp:coreProperties>
</file>